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8506-DEE6-4FC1-A3AB-DB8698E1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C921-DD00-4759-A711-4647FB2C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B5BE-F239-4345-B771-248A7899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49A3-C7F1-428E-BD77-FEC61515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7BF5-33EB-4514-9E58-467625A7E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38E6-FCE3-45C0-944E-5CE3329F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8139-5320-45A1-BA2A-6B001AE1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0AD8-DED4-447B-B83A-57E9B37E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1AE8-DBDD-4B61-9C7E-6A3F9CE7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2D06-066F-4E4A-8957-B3B51230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0B77-942F-4418-A1F7-C38914F3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2C1E-8F75-4545-BFE4-1971986F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9A30-61DD-443D-992A-65F0CC9F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0ED4-0DE7-404B-8201-7B90EB37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B13A-3CE1-4859-86E5-D59C9FDF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7A82-1777-4ECA-9329-A4BE44B7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DDCC-7E9C-4920-85CD-17F58591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CACD-D7B0-4E9A-8EF7-ED6D3B15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5544-27FA-43FC-A4ED-CCB08979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C0E4-9FA8-4D0B-B92C-83D210F5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5946-64A7-4C47-A6FE-7D52947A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DD61-7B11-479E-A3B1-D4136C4B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6000-DEF3-4647-B86A-C1C5E716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1101-A56F-436A-8FB3-A0E1AD94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D6DD-304B-4A51-9655-75B5D29971EA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2924-3F0B-4F8A-879A-B8890A1E7196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371600" y="1295280"/>
            <a:ext cx="6629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artimos de la base que la lengua es un código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comunicación compartido por todos los hablantes de una misma comunidad lingüístic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Es decir: todos los habitantes de una comunidad lingüística cuen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con los rudimentos necesarios para poder comunicarse entre ell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l lenguaje se usa para comunicar una realidad (sea afirmativa, negativa o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osibilidad), un deseo, una admiración, o para preguntar o dar una or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egún sea como utilicemos las distintas oraciones que expresan dich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ealidades, será la función que desempeñe el lengua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l lenguaje tiene seis fun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1. Función Emo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2. Función Cona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Función Referen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4. Función Metalingüís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5. Función Fá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6. Función Poé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1 . </a:t>
            </a:r>
            <a:r>
              <a:rPr b="1" lang="it-IT" sz="3200" spc="-1" strike="noStrike">
                <a:solidFill>
                  <a:srgbClr val="ff5050"/>
                </a:solidFill>
                <a:latin typeface="Arial"/>
              </a:rPr>
              <a:t>Función emotiva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l mensaje que emite el emisor hace referencia a lo que siente, su yo íntimo, predominando él, sobre todos los demás factores que constituyen el proceso de comuni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s formas lingüísticas en las que se realiza esta función corresponden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interjecciones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y a las 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oraciones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exclamativas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j: - ¡Ay! ¡Qué dolor de cabeza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-¡Qué gusto de vert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-¡Qué rico el post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5050"/>
                </a:solidFill>
                <a:latin typeface="Arial"/>
              </a:rPr>
              <a:t>Función Cona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l receptor predomina sobre los otros factores de la comunicación, pues la comunicación está centrada en la persona del tú, de quien se espera la realización de un acto o una respues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s formas lingüísticas en las que se realiza preferentemente la fun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onativa corresponden al </a:t>
            </a:r>
            <a:r>
              <a:rPr b="0" lang="it-IT" sz="3200" spc="-1" strike="noStrike">
                <a:solidFill>
                  <a:srgbClr val="ff3300"/>
                </a:solidFill>
                <a:latin typeface="Arial"/>
              </a:rPr>
              <a:t>vocativo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y a las oraciones </a:t>
            </a:r>
            <a:r>
              <a:rPr b="0" lang="it-IT" sz="3200" spc="-1" strike="noStrike">
                <a:solidFill>
                  <a:srgbClr val="ff3300"/>
                </a:solidFill>
                <a:latin typeface="Arial"/>
              </a:rPr>
              <a:t>imperativas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it-IT" sz="3200" spc="-1" strike="noStrike">
                <a:solidFill>
                  <a:srgbClr val="ff3300"/>
                </a:solidFill>
                <a:latin typeface="Arial"/>
              </a:rPr>
              <a:t>interrogativas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edro, haga el favor de traer más caf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- ¿Trajiste la car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- Andrés, cierra la ventana, por fav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5050"/>
                </a:solidFill>
                <a:latin typeface="Arial"/>
              </a:rPr>
              <a:t>Función referencial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l acto de comunicación está centrado en el contexto, o sea, en el tema o asunto del que se está haciendo referencia. Se utilizan oraciones declarativas o enunciativas, pudiendo ser afirmativas 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negativ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j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- El hombre es animal 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- La fórmula del Ozono es O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- No hace frí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- Las clases se suspenden hasta la tercera ho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Verdana"/>
              </a:rPr>
              <a:t>Función metalingüísti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e centra en el código mismo de la  lengua. Es el código el factor predomina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j . - Pedrito no sabe muchas palabras y le pregunta a su papá: ¿Qué significa 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alabra “canalla”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- Ana se encuentra con una amiga y le dice : Sara, ¿A qué operación quirúrgica te refier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Función fáti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nsiste en iniciar, interrumpir, continuar o finalizar la comunicación. Para este fin existen Fórmulas de Saludo (Buenos días, ¡Hola!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¿Cómo estas?, ¿Qué ´hubo?, etc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órmulas de Despedida (Adiós, Hasta luego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os vemos, Que lo pases bien ,etc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órmulas que se utilizan para Interrump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una conversación y luego continuar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 Perdón....., Espere un momentito...,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Un español de Galicia puede comunicarse con otro de Andalucía, porque los dos conocen el mismo códig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aturalmente si nos fijamos en cada uno de estos hablantes, se aprecian diversida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o habla de la misma persona el andaluz que el gallego, aunque ambos hablen españo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ampoco utilizan de la misma manera ese idioma las personas que viven en el me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rural, que las que viven en una ciud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5050"/>
                </a:solidFill>
                <a:latin typeface="Arial"/>
              </a:rPr>
              <a:t>Función poéti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e utiliza preferentemente en la literatura. El acto de comunicación está centrado en el mensaje mismo, en su disposición, en 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orma como éste se trasmite. Entre los recursos expresivos utilizados están la rima, la aliteración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j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- “Bien vestido, bien recibido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- “Casa Zabala, la que al vender, regala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i siquiera dos personas que viven en 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isma casa hablan de la misma manera: seguramente el abuelo utilice u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variedades lingüísticas diferentes de las del padre, y de las del niet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ero, es más, incluso una misma persona habla de manera muy diferente según en qu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ntexto se encuentre: no es lo mismo hablar con un amigo que con el director del colegio, o el jefe de la ofic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 procedencia geográfica del hablante, su origen social y la situ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omunicativa dan lugar a la aparición de tres tipos de variedades lingüíst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s primeras son las variedades geográficas, también llamadas diatópicas. 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os dialectos. Estas son las más obvias, y en las que todos pensamos cua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hablamos de diferencias lingüíst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s segundas son las variedades sociales o diastráticas. Son los llamados </a:t>
            </a:r>
            <a:r>
              <a:rPr b="0" lang="it-IT" sz="2800" spc="-1" strike="noStrike">
                <a:solidFill>
                  <a:srgbClr val="ff3300"/>
                </a:solidFill>
                <a:latin typeface="Arial"/>
              </a:rPr>
              <a:t>sociolectos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los cuales identifican a los hablantes como  miembros de un determinado grupo soci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quí se incluyen los grupos cuya forma de hablar identificamos con la lengua vulgar, o las diferentes jergas juveniles, o la for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e hablar de grupos sociales marginales, por ejemp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e la misma maner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on sociolectos las variedades cultas, las utilizadas por doctores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vestigadores universitarios en sus publicaciones, la jerga utilizada por 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médicos, o la que usan los abogad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s terceras son las variedades funcionales o diafásicas. Son los llam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egistros lingüísticos. Estos registros aparecen en función de las característ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e la situación, o del contexto comunicativo en el que se encuentra el habla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5050"/>
                </a:solidFill>
                <a:latin typeface="Arial"/>
              </a:rPr>
              <a:t>FUNCIONES DEL LENGUAJ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e denominan funciones del lenguaje aquellas expresiones del mismo 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ueden trasmitir las 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actitudes del emisor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(del hablante, en la comuni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oral y del escritor, en la comunicación escrita) 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frente al 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proce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comunica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u</cp:lastModifiedBy>
  <dcterms:modified xsi:type="dcterms:W3CDTF">2011-11-18T16:51:3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